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8341-9819-4520-AA40-171D6B5A65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Writing A Good Book Review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A Good Book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OMEWORK-DAY 2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-DAY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 Paragraph 3 &amp;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nt this typed neatly in a readable font, size 14 by tomo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What Is A Book Review ?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ook Review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Good Book Review . . 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ood Book Review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 the reader in suspe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1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the 1st paragraph, you will need to include the genre, and what type of people the book is geared toward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paragraph follows the title and auth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st paragraph, you will need to include the genre, and what type of people the book is geared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2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the 2nd paragraph you want to include your personal opinions about the book and how parts relate to your personal lif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2nd paragraph you want to include your personal opinions about the book and how parts relate to your personal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aragraph is strictly about you and your thoughts, and enjoy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OMEWORK-DAY 1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onight’s homework is to write the 1st 2 paragraphs of a book review on the book you will be using for this projec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-DAY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ight’s homework is to write the 1st 2 paragraphs of a book review on the book you will be using for this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3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r 3rd paragraph is the longest of all of your paragraph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3rd paragraph is the longest of all of your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go through phases 1 throug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e next slid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3-PLANNE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main events in the 1st 4th of your boo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st part of the middle.  Talk about the major probl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3-PL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your summary, you will need to design a phases pl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main events in the 1st 4th of your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main events and the problems that occur during the 1st part of the middle.  Talk about the major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4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your last required para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follow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’s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rds Book Has Rece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fo About The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A322-BFD0-48D6-B8E6-FE828180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8619-CDA8-4DEC-B8B5-3D91D621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80FD-1441-4D89-8234-3ED1DA0A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DD0E-3DC6-4DFB-9104-165C35B3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341A-5F3A-4830-BC52-285CB895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F393-42FB-4585-9CA2-7002A5DA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CCE9-9BB9-4E6D-8C7A-E7AEF47D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913F-F486-4D7D-B60D-21C4B4A0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C0F4-CBE6-4C84-B989-54A6C980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9867-4C52-471B-8D01-E2969468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C87B-1BA5-4075-B882-A15EB173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D3F8-B995-467A-8914-80B3EC0C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909E-2BA3-43CF-BAB5-B7A5D5EC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A7C2-5D38-4608-AEBB-3FB89E5D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83EA-F3E4-4C09-ADA0-C99B6B87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85DB-08DB-40BF-810F-3E84726F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91A1-EA48-4C48-9927-48FFA813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E571-49C1-47C5-BF34-B14D7015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49FE-BD00-40E9-B68A-4914798B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23BD-1432-4B29-9532-0DC14B3D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F068-9A33-4F52-B210-3B65EFFB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D296-8C6F-4433-BE9B-76A70C30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FE93-AF1F-45FC-AFEB-93401A81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B9CD-00A6-4600-A36A-8B646DDF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E614-59F1-43D6-B54A-6612A969CE7B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8291-0739-4F87-9AB0-4DF7B21456B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riting A Good Book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A Book Review 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Good Book Review . . .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, you will need to include the genre, and what type of people the book is geared towa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2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you want to include your personal opinions about the book and how parts relate to your personal li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night’s homework is to write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2 paragraphs of a book review on the book you will be using for this projec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r 3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is the longest of all of your paragraph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-PLANN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609480" y="3809880"/>
            <a:ext cx="8382240" cy="2667240"/>
          </a:xfrm>
          <a:prstGeom prst="flowChar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62120" y="320040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in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4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of your book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952880" y="3352680"/>
            <a:ext cx="3810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part of the middle.  Talk about the major proble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914400" y="525780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105520" y="525780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0:20:03Z</dcterms:created>
  <dc:creator>Ben Swanson</dc:creator>
  <dc:description/>
  <dc:language>en-US</dc:language>
  <cp:lastModifiedBy>RomaK</cp:lastModifiedBy>
  <dcterms:modified xsi:type="dcterms:W3CDTF">2015-09-02T09:49:05Z</dcterms:modified>
  <cp:revision>4</cp:revision>
  <dc:subject/>
  <dc:title>Writing A Good Book Review</dc:title>
</cp:coreProperties>
</file>